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8.wmf" ContentType="image/x-wmf"/>
  <Override PartName="/ppt/media/image13.png" ContentType="image/pn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 Ca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1AD0-B109-4F98-ADF0-95DEF1AC3B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kentschools.net/rhs/ccarman/etech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ADAB-9DBA-4B9F-9054-67B4F1553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F965-66F8-466E-9A02-7FEB92400C28}" type="slidenum"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http://www.kentschools.net/rhs/ccarman/etech/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188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Times New Roman"/>
              </a:rPr>
              <a:t>Chris Carman</a:t>
            </a:r>
            <a:endParaRPr b="0" lang="en-US" sz="12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5A33-B9AF-427F-9678-237736B76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40413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F036-277F-4F1C-97B7-E7D8DA42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CC2A-5107-46ED-B76F-8C765B14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4973-AC91-47A3-BFBE-4395C3AB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E95F-AEE2-4644-8651-7F49B205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9BB3-B8BE-4F00-9C86-1EEA5595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23AE-0422-41EA-872E-4BC8629F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3129-E812-416B-AE96-AA3A6258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4D0B-73A9-49A4-9A35-DE3AA260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525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A02C-F2C6-4948-91BD-58EED469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F18D-7B53-4D1C-99DE-D847845D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C131-697B-4149-B532-ADDDBF4E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416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0BB8-3BDE-4FDA-BCA6-6102C5E7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A8E4-1334-4724-9308-4D5F13C3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40413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7EE5-E4E5-438F-B4D5-1461F69C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416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F96D-E391-4925-A279-954862BB0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62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16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62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16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D47F-7EC7-4469-82F5-11A86519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9B63-A32C-407E-BB70-B58E9D57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62E2-7538-4E0D-8254-5D376C4D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EE1A-8839-473C-9D1F-F5CFFB72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525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F2D9-FB5D-43E8-A1B2-CA1665DC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BB3B-B913-4AC6-A0D8-F0B78256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F51E-E549-419A-8962-FAC3F6F3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986E-D00F-4E80-9126-38049889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E863-A07A-451F-8ECF-DB3A4B39F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F044-5260-4A95-A23A-CDF21D0F220D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hesilver.net/" TargetMode="External"/><Relationship Id="rId2" Type="http://schemas.openxmlformats.org/officeDocument/2006/relationships/hyperlink" Target="http://camstudio.org/" TargetMode="External"/><Relationship Id="rId3" Type="http://schemas.openxmlformats.org/officeDocument/2006/relationships/hyperlink" Target="http://smarttech.com/" TargetMode="External"/><Relationship Id="rId4" Type="http://schemas.openxmlformats.org/officeDocument/2006/relationships/hyperlink" Target="http://camstudio.org/" TargetMode="External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telestream.net/screen-flow/overview.htm" TargetMode="External"/><Relationship Id="rId2" Type="http://schemas.openxmlformats.org/officeDocument/2006/relationships/hyperlink" Target="http://camstudio.org/" TargetMode="External"/><Relationship Id="rId3" Type="http://schemas.openxmlformats.org/officeDocument/2006/relationships/hyperlink" Target="http://smarttech.com/" TargetMode="External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50292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Screencasting:</a:t>
            </a:r>
            <a:br>
              <a:rPr sz="54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ke your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esentation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o the talking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352680" y="4952520"/>
            <a:ext cx="5639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Chris Carman</a:t>
            </a:r>
            <a:endParaRPr b="0" lang="en-US" sz="19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Theodore Roosevelt High School</a:t>
            </a:r>
            <a:endParaRPr b="0" lang="en-US" sz="19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Kent, Ohio</a:t>
            </a:r>
            <a:endParaRPr b="0" lang="en-US" sz="19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ke_ccarman@kentschools.net</a:t>
            </a:r>
            <a:endParaRPr b="0" lang="en-US" sz="19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http://www.kentschools.net/rhs/ccarman/etech/</a:t>
            </a:r>
            <a:endParaRPr b="0" lang="en-US" sz="19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1" name="Picture 5" descr="rider-logo-white"/>
          <p:cNvPicPr/>
          <p:nvPr/>
        </p:nvPicPr>
        <p:blipFill>
          <a:blip r:embed="rId1"/>
          <a:stretch/>
        </p:blipFill>
        <p:spPr>
          <a:xfrm>
            <a:off x="152280" y="4952880"/>
            <a:ext cx="175284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creencasting equipment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80808"/>
                </a:solidFill>
                <a:uFillTx/>
                <a:latin typeface="Tahoma"/>
              </a:rPr>
              <a:t>Required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omput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microphon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wired or wireles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creencasting softwar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Internet connectio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80808"/>
                </a:solidFill>
                <a:uFillTx/>
                <a:latin typeface="Tahoma"/>
              </a:rPr>
              <a:t>Optional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headphone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MARTBoard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drawing tablet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instead of SMARTBoard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25" name="Picture 10" descr="0201081537"/>
          <p:cNvPicPr/>
          <p:nvPr/>
        </p:nvPicPr>
        <p:blipFill>
          <a:blip r:embed="rId1"/>
          <a:srcRect l="0" t="1563" r="0" b="0"/>
          <a:stretch/>
        </p:blipFill>
        <p:spPr>
          <a:xfrm>
            <a:off x="5105520" y="1371600"/>
            <a:ext cx="3403440" cy="2513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0201081534a"/>
          <p:cNvPicPr/>
          <p:nvPr/>
        </p:nvPicPr>
        <p:blipFill>
          <a:blip r:embed="rId2"/>
          <a:srcRect l="0" t="1563" r="0" b="0"/>
          <a:stretch/>
        </p:blipFill>
        <p:spPr>
          <a:xfrm>
            <a:off x="5105520" y="3962520"/>
            <a:ext cx="3403440" cy="2512800"/>
          </a:xfrm>
          <a:prstGeom prst="rect">
            <a:avLst/>
          </a:prstGeom>
          <a:ln w="0">
            <a:noFill/>
          </a:ln>
        </p:spPr>
      </p:pic>
      <p:sp>
        <p:nvSpPr>
          <p:cNvPr id="127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1751-BF30-42FB-99C6-85F64B9FA4DD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screencasting proces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9" name="Group 7"/>
          <p:cNvGrpSpPr/>
          <p:nvPr/>
        </p:nvGrpSpPr>
        <p:grpSpPr>
          <a:xfrm>
            <a:off x="1981080" y="1371600"/>
            <a:ext cx="5485320" cy="4984200"/>
            <a:chOff x="1981080" y="1371600"/>
            <a:chExt cx="5485320" cy="4984200"/>
          </a:xfrm>
        </p:grpSpPr>
        <p:sp>
          <p:nvSpPr>
            <p:cNvPr id="130" name="AutoShape 6"/>
            <p:cNvSpPr/>
            <p:nvPr/>
          </p:nvSpPr>
          <p:spPr>
            <a:xfrm>
              <a:off x="1981080" y="1371600"/>
              <a:ext cx="5485320" cy="49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cxnSp>
          <p:nvCxnSpPr>
            <p:cNvPr id="131" name="_s37904"/>
            <p:cNvCxnSpPr>
              <a:stCxn id="132" idx="0"/>
              <a:endCxn id="133" idx="2"/>
            </p:cNvCxnSpPr>
            <p:nvPr/>
          </p:nvCxnSpPr>
          <p:spPr>
            <a:xfrm flipV="1">
              <a:off x="4723200" y="4486320"/>
              <a:ext cx="7560" cy="623520"/>
            </a:xfrm>
            <a:prstGeom prst="straightConnector1">
              <a:avLst/>
            </a:prstGeom>
            <a:ln w="28440">
              <a:solidFill>
                <a:srgbClr val="080808"/>
              </a:solidFill>
              <a:miter/>
              <a:headEnd len="lg" type="triangle" w="lg"/>
            </a:ln>
          </p:spPr>
        </p:cxnSp>
        <p:cxnSp>
          <p:nvCxnSpPr>
            <p:cNvPr id="134" name="_s37902"/>
            <p:cNvCxnSpPr>
              <a:stCxn id="133" idx="0"/>
              <a:endCxn id="135" idx="2"/>
            </p:cNvCxnSpPr>
            <p:nvPr/>
          </p:nvCxnSpPr>
          <p:spPr>
            <a:xfrm flipV="1">
              <a:off x="4723200" y="2617200"/>
              <a:ext cx="7560" cy="623520"/>
            </a:xfrm>
            <a:prstGeom prst="straightConnector1">
              <a:avLst/>
            </a:prstGeom>
            <a:ln w="28440">
              <a:solidFill>
                <a:srgbClr val="080808"/>
              </a:solidFill>
              <a:miter/>
              <a:headEnd len="lg" type="triangle" w="lg"/>
            </a:ln>
          </p:spPr>
        </p:cxnSp>
        <p:sp>
          <p:nvSpPr>
            <p:cNvPr id="135" name="_s37896"/>
            <p:cNvSpPr/>
            <p:nvPr/>
          </p:nvSpPr>
          <p:spPr>
            <a:xfrm>
              <a:off x="1981080" y="1371600"/>
              <a:ext cx="5485320" cy="1245960"/>
            </a:xfrm>
            <a:prstGeom prst="roundRect">
              <a:avLst>
                <a:gd name="adj" fmla="val 16667"/>
              </a:avLst>
            </a:prstGeom>
            <a:solidFill>
              <a:srgbClr val="68a2b6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808"/>
                  </a:solidFill>
                  <a:latin typeface="Times New Roman"/>
                </a:rPr>
                <a:t>Record presentation</a:t>
              </a:r>
              <a:endParaRPr b="0" lang="en-US" sz="32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3" name="_s37899"/>
            <p:cNvSpPr/>
            <p:nvPr/>
          </p:nvSpPr>
          <p:spPr>
            <a:xfrm>
              <a:off x="1981080" y="3240360"/>
              <a:ext cx="5485320" cy="1245960"/>
            </a:xfrm>
            <a:prstGeom prst="roundRect">
              <a:avLst>
                <a:gd name="adj" fmla="val 16667"/>
              </a:avLst>
            </a:prstGeom>
            <a:solidFill>
              <a:srgbClr val="68a2b6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808"/>
                  </a:solidFill>
                  <a:latin typeface="Times New Roman"/>
                </a:rPr>
                <a:t>Convert video to SWF</a:t>
              </a:r>
              <a:endParaRPr b="0" lang="en-US" sz="32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  <p:sp>
          <p:nvSpPr>
            <p:cNvPr id="132" name="_s37903"/>
            <p:cNvSpPr/>
            <p:nvPr/>
          </p:nvSpPr>
          <p:spPr>
            <a:xfrm>
              <a:off x="1981080" y="5109480"/>
              <a:ext cx="5485320" cy="1245960"/>
            </a:xfrm>
            <a:prstGeom prst="roundRect">
              <a:avLst>
                <a:gd name="adj" fmla="val 16667"/>
              </a:avLst>
            </a:prstGeom>
            <a:solidFill>
              <a:srgbClr val="68a2b6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808"/>
                  </a:solidFill>
                  <a:latin typeface="Times New Roman"/>
                </a:rPr>
                <a:t>Upload to blog or web server</a:t>
              </a:r>
              <a:endParaRPr b="0" lang="en-US" sz="3200" spc="-1" strike="noStrike">
                <a:solidFill>
                  <a:srgbClr val="080808"/>
                </a:solidFill>
                <a:latin typeface="Times New Roman"/>
              </a:endParaRPr>
            </a:p>
          </p:txBody>
        </p:sp>
      </p:grpSp>
      <p:sp>
        <p:nvSpPr>
          <p:cNvPr id="136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E657-0105-4E1D-8FC1-ED8355E0BBA8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Four different Windows programs tested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Bulent’s Screen recorder 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Shareware - $40-80 to register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963af"/>
                </a:solidFill>
                <a:uFillTx/>
                <a:latin typeface="Tahoma"/>
                <a:hlinkClick r:id="rId1"/>
              </a:rPr>
              <a:t>http://www.thesilver.net/</a:t>
            </a: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Camstudio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Freeware – open source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963af"/>
                </a:solidFill>
                <a:uFillTx/>
                <a:latin typeface="Tahoma"/>
                <a:hlinkClick r:id="rId2"/>
              </a:rPr>
              <a:t>http://www.camstudio.org/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SMART Recorder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Free – included with SMARTBoard software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963af"/>
                </a:solidFill>
                <a:uFillTx/>
                <a:latin typeface="Tahoma"/>
                <a:hlinkClick r:id="rId3"/>
              </a:rPr>
              <a:t>http://www.smarttech.com/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Can also be used without a SMARTBoard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Jing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Freeware - $14.95/year for Pro version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963af"/>
                </a:solidFill>
                <a:uFillTx/>
                <a:latin typeface="Tahoma"/>
                <a:hlinkClick r:id="rId4"/>
              </a:rPr>
              <a:t>http://www.jingproject.com/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indows software tested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5"/>
          <a:stretch/>
        </p:blipFill>
        <p:spPr>
          <a:xfrm>
            <a:off x="7391520" y="19051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"/>
          <p:cNvPicPr/>
          <p:nvPr/>
        </p:nvPicPr>
        <p:blipFill>
          <a:blip r:embed="rId6"/>
          <a:stretch/>
        </p:blipFill>
        <p:spPr>
          <a:xfrm>
            <a:off x="7391520" y="32004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"/>
          <p:cNvPicPr/>
          <p:nvPr/>
        </p:nvPicPr>
        <p:blipFill>
          <a:blip r:embed="rId7"/>
          <a:stretch/>
        </p:blipFill>
        <p:spPr>
          <a:xfrm>
            <a:off x="6934320" y="4467240"/>
            <a:ext cx="1790640" cy="885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8"/>
          <a:stretch/>
        </p:blipFill>
        <p:spPr>
          <a:xfrm>
            <a:off x="7467480" y="556272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143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51C3-0455-4665-B0DA-1953D23115B4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ulent’s Screen Recorder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310760"/>
            <a:ext cx="419112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80808"/>
                </a:solidFill>
                <a:uFillTx/>
                <a:latin typeface="Tahoma"/>
              </a:rPr>
              <a:t>Pros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Most option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With the Movie Lab software you can do almost anything you imagine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Can record separately and synch the audio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Can convert to multiple format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24280" y="12949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80808"/>
                </a:solidFill>
                <a:uFillTx/>
                <a:latin typeface="Tahoma"/>
              </a:rPr>
              <a:t>Cons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Costs much less than Camtasia, but it isn’t free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Until it’s registered, it leaves a watermark in each corner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A bit more difficult to use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800100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48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73AE-6B4F-4FE2-B413-FF1AAA0BE704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mStudio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323720"/>
            <a:ext cx="4496040" cy="53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80808"/>
                </a:solidFill>
                <a:uFillTx/>
                <a:latin typeface="Tahoma"/>
              </a:rPr>
              <a:t>Pros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Record to AVI video file, straight to SWF, or convert between them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Free!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Relatively simple to learn and use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Does many things but the interface stays simple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Comes with its own “lossless” codec that produces crystal clear results with a much smaller file size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24280" y="1325160"/>
            <a:ext cx="419112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80808"/>
                </a:solidFill>
                <a:uFillTx/>
                <a:latin typeface="Tahoma"/>
              </a:rPr>
              <a:t>Cons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Can’t record audio directly from internal audio if your presentation has sound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tretch/>
        </p:blipFill>
        <p:spPr>
          <a:xfrm>
            <a:off x="800100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53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8F5F-F3D3-4B7B-883D-A1D9C2580804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MART Recorder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80808"/>
                </a:solidFill>
                <a:uFillTx/>
                <a:latin typeface="Tahoma"/>
              </a:rPr>
              <a:t>Pros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Simplest and easiest interface to use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Free!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Many educators already have the software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Can be used without a SMARTBoard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24280" y="12949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80808"/>
                </a:solidFill>
                <a:uFillTx/>
                <a:latin typeface="Tahoma"/>
              </a:rPr>
              <a:t>Cons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AVI video file must be converted to SWF for posting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Version 10 requires a SMARTBoard serial number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790640" cy="885960"/>
          </a:xfrm>
          <a:prstGeom prst="rect">
            <a:avLst/>
          </a:prstGeom>
          <a:ln w="0">
            <a:noFill/>
          </a:ln>
        </p:spPr>
      </p:pic>
      <p:sp>
        <p:nvSpPr>
          <p:cNvPr id="158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074D-C9F3-440D-9943-E897DE534CE9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Jing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80808"/>
                </a:solidFill>
                <a:uFillTx/>
                <a:latin typeface="Tahoma"/>
              </a:rPr>
              <a:t>Pros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Simple and easy interface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Free!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Saves directly to Flash video without additional encoding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Can select portion of screen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Can also do screenshot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24280" y="12949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80808"/>
                </a:solidFill>
                <a:uFillTx/>
                <a:latin typeface="Tahoma"/>
              </a:rPr>
              <a:t>Cons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Free version limited to 5 minute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Can only save as Flash video (Pro can save as MP4)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16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33E0-E6EB-4EDF-954F-F2F4E4A8DE95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hree different Mac programs tested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creenFlow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hareware - $99 to register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963af"/>
                </a:solidFill>
                <a:uFillTx/>
                <a:latin typeface="Tahoma"/>
                <a:hlinkClick r:id="rId1"/>
              </a:rPr>
              <a:t>http://www.telestream.net/screen-flow/overview.htm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Jing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reeware - $14.95/year for Pro version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963af"/>
                </a:solidFill>
                <a:uFillTx/>
                <a:latin typeface="Tahoma"/>
                <a:hlinkClick r:id="rId2"/>
              </a:rPr>
              <a:t>http://www.jingproject.com/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MART Record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ree – included with SMARTBoard software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963af"/>
                </a:solidFill>
                <a:uFillTx/>
                <a:latin typeface="Tahoma"/>
                <a:hlinkClick r:id="rId3"/>
              </a:rPr>
              <a:t>http://www.smarttech.com/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Can also be used without a SMARTBoard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c software tested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8" descr=""/>
          <p:cNvPicPr/>
          <p:nvPr/>
        </p:nvPicPr>
        <p:blipFill>
          <a:blip r:embed="rId4"/>
          <a:stretch/>
        </p:blipFill>
        <p:spPr>
          <a:xfrm>
            <a:off x="6934320" y="4772160"/>
            <a:ext cx="1790640" cy="885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"/>
          <p:cNvPicPr/>
          <p:nvPr/>
        </p:nvPicPr>
        <p:blipFill>
          <a:blip r:embed="rId5"/>
          <a:stretch/>
        </p:blipFill>
        <p:spPr>
          <a:xfrm>
            <a:off x="7315200" y="342900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"/>
          <p:cNvPicPr/>
          <p:nvPr/>
        </p:nvPicPr>
        <p:blipFill>
          <a:blip r:embed="rId6"/>
          <a:stretch/>
        </p:blipFill>
        <p:spPr>
          <a:xfrm>
            <a:off x="7316640" y="1905120"/>
            <a:ext cx="1022400" cy="990360"/>
          </a:xfrm>
          <a:prstGeom prst="rect">
            <a:avLst/>
          </a:prstGeom>
          <a:ln w="0">
            <a:noFill/>
          </a:ln>
        </p:spPr>
      </p:pic>
      <p:sp>
        <p:nvSpPr>
          <p:cNvPr id="169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E411-5F05-4528-B2E9-CFECCED853E4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creenFlow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310760"/>
            <a:ext cx="419112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80808"/>
                </a:solidFill>
                <a:uFillTx/>
                <a:latin typeface="Tahoma"/>
              </a:rPr>
              <a:t>Pros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Most options - extremely powerful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Can crop &amp; resize video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Can record audio separately and synch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Can add in outside video clip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Can convert to multiple format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24280" y="12949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80808"/>
                </a:solidFill>
                <a:uFillTx/>
                <a:latin typeface="Tahoma"/>
              </a:rPr>
              <a:t>Cons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Not free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Until it’s registered, it’s limited to 2 minutes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Lots of options make it a bit more difficult to use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20960" cy="990720"/>
          </a:xfrm>
          <a:prstGeom prst="rect">
            <a:avLst/>
          </a:prstGeom>
          <a:ln w="0">
            <a:noFill/>
          </a:ln>
        </p:spPr>
      </p:pic>
      <p:sp>
        <p:nvSpPr>
          <p:cNvPr id="17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3C9A-0615-461C-9711-5CEA520BEEC1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Use a wireless mic for more interactive lesson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Make a shortened, focused screencast that can be paused for more complex lesson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est your audio input first to make sure it’s not too loud or too soft!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Recording the audio separately and then synchronizing it works, but it’s a lot of work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screencasting tip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28B1-E3FC-4EDB-89F0-0F5779E9B7CC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screencasting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aptures what is displayed on a computer scree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ccompanied by explanatory commentary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just a fancy term for recording a movie of your computer screen to a file that others can view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4" name="Picture 5" descr="0201081530"/>
          <p:cNvPicPr/>
          <p:nvPr/>
        </p:nvPicPr>
        <p:blipFill>
          <a:blip r:embed="rId1"/>
          <a:stretch/>
        </p:blipFill>
        <p:spPr>
          <a:xfrm>
            <a:off x="4724280" y="235260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9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9AF8-EF84-4E47-B32C-6254F2DC94D9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http://screencastingprimer.wikispaces.com/prim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creencasting prim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http://www.oreillynet.com/pub/a/oreilly/digitalmedia/2005/11/16/what-is-screencasting.html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nother prim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http://labnol.blogspot.com/2005/05/screencasting-to-help-your-mom.html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rimer and review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creencasting web resource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4941-EA1F-4295-A5A0-EC5987F831BC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http://www.shambles.net/pages/staff/screencast/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Review of softwar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http://www.donationcoder.com/Reviews/Archive/ScreenCasting/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Review of softwar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http://youtube.com/watch?v=6ZuktL23XI8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eacher tutorial of BSR and Record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http://www.teachertube.com/view_video.php?viewkey=90f19c78c75bd1e06f21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utorial of camstudio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indows web resource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27D1-1706-4D75-93E6-B12679A315B1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ssible uses for screencasting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s a recording of a classroom lesson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s standalone tutorials, software demos, or orientation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o clarify complex technical concept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o teach/demonstrate how to use a piece of software or a web servic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8" name="Picture 8" descr="0201081531"/>
          <p:cNvPicPr/>
          <p:nvPr/>
        </p:nvPicPr>
        <p:blipFill>
          <a:blip r:embed="rId1"/>
          <a:stretch/>
        </p:blipFill>
        <p:spPr>
          <a:xfrm>
            <a:off x="4724280" y="235260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3D2D-6CD5-4235-9E5B-200823EB46C8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dcasting vs. screencas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80808"/>
                </a:solidFill>
                <a:uFillTx/>
                <a:latin typeface="Tahoma"/>
              </a:rPr>
              <a:t>Podcasting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udio only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good primarily for aural learner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an be played in almost any media program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generally easy to edit after recorded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24280" y="12949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80808"/>
                </a:solidFill>
                <a:uFillTx/>
                <a:latin typeface="Tahoma"/>
              </a:rPr>
              <a:t>Screencasting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udio and video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good for visual and aural learner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generally played in web browser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more challenging to edit after recorded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3E11-5D3A-4146-90A0-067675FB76BA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y screencast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more engaging and interactive than written instructions, static photos or illustrations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the screencasting medium can communicate what otherwise cannot be explained easily, if at all 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6" name="Picture 8" descr="MCj04339420000[1]"/>
          <p:cNvPicPr/>
          <p:nvPr/>
        </p:nvPicPr>
        <p:blipFill>
          <a:blip r:embed="rId1"/>
          <a:stretch/>
        </p:blipFill>
        <p:spPr>
          <a:xfrm>
            <a:off x="5181480" y="1828800"/>
            <a:ext cx="3198960" cy="3198960"/>
          </a:xfrm>
          <a:prstGeom prst="rect">
            <a:avLst/>
          </a:prstGeom>
          <a:ln w="0">
            <a:noFill/>
          </a:ln>
        </p:spPr>
      </p:pic>
      <p:sp>
        <p:nvSpPr>
          <p:cNvPr id="10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B17E-E42C-481C-A2BF-9F3E2ACB9106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y screencast?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continue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varied media appeals to different learning style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relative ease of use and low cos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hare information in an intuitive and effective way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an easily be published and distributed via blogs, tags, video hosting services and Web 2.0 site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015E-88D5-4283-A7BE-B2E5C4A19E86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y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screencast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increased communication with student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ccommodates multiple learning style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tudents who miss a class due to illness can stay with the entire classroom discussion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great for when you’re out of the classroom!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3" name="Picture 9" descr="MCj04241780000[1]"/>
          <p:cNvPicPr/>
          <p:nvPr/>
        </p:nvPicPr>
        <p:blipFill>
          <a:blip r:embed="rId1"/>
          <a:stretch/>
        </p:blipFill>
        <p:spPr>
          <a:xfrm>
            <a:off x="5486400" y="2057400"/>
            <a:ext cx="2806560" cy="3201840"/>
          </a:xfrm>
          <a:prstGeom prst="rect">
            <a:avLst/>
          </a:prstGeom>
          <a:ln w="0">
            <a:noFill/>
          </a:ln>
        </p:spPr>
      </p:pic>
      <p:sp>
        <p:nvSpPr>
          <p:cNvPr id="11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D6D0-CEBD-4844-8105-EE7E11A9039B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y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screencast: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continue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when things get complicated, students can see it more than onc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having the screencast available on the web 24/7 can help save time and provide "just in time" access to students and parent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17" name="Picture 8" descr="MCj04158580000[1]"/>
          <p:cNvPicPr/>
          <p:nvPr/>
        </p:nvPicPr>
        <p:blipFill>
          <a:blip r:embed="rId1"/>
          <a:stretch/>
        </p:blipFill>
        <p:spPr>
          <a:xfrm>
            <a:off x="5334120" y="2666880"/>
            <a:ext cx="3198600" cy="2373480"/>
          </a:xfrm>
          <a:prstGeom prst="rect">
            <a:avLst/>
          </a:prstGeom>
          <a:ln w="0">
            <a:noFill/>
          </a:ln>
        </p:spPr>
      </p:pic>
      <p:sp>
        <p:nvSpPr>
          <p:cNvPr id="11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9A0C-E8FA-4D55-B9B5-C6DEBED7D035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80880" y="2285640"/>
            <a:ext cx="4191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If a picture is worth a thousand words, maybe a movie is worth a thousand pictures...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 thought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12" descr="MPj04072260000[1]"/>
          <p:cNvPicPr/>
          <p:nvPr/>
        </p:nvPicPr>
        <p:blipFill>
          <a:blip r:embed="rId1"/>
          <a:stretch/>
        </p:blipFill>
        <p:spPr>
          <a:xfrm>
            <a:off x="4724280" y="2247840"/>
            <a:ext cx="4191120" cy="335304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1483-41BD-40E2-AFD2-C8370B1E22D0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7:55:24Z</dcterms:created>
  <dc:creator>R. Mitch Lambert</dc:creator>
  <dc:description/>
  <dc:language>en-US</dc:language>
  <cp:lastModifiedBy>Administratr</cp:lastModifiedBy>
  <cp:lastPrinted>2009-02-03T02:40:15Z</cp:lastPrinted>
  <dcterms:modified xsi:type="dcterms:W3CDTF">2010-01-29T02:34:42Z</dcterms:modified>
  <cp:revision>25</cp:revision>
  <dc:subject/>
  <dc:title>Screencasting</dc:title>
</cp:coreProperties>
</file>